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F97-621E-4088-BCE5-0984F27A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562-3C78-4A87-BAB8-DE810FE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3E1-241F-46F8-844A-46455B23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83A-5BF7-4059-8187-153766A5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703-B85D-43BC-9E78-061551D9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BBB-E687-460E-B82C-88A9F54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4B1-8C01-4A32-97CB-AD357598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A06-13D9-4A72-9274-6286416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CF7-759E-43F8-AF9F-81ED5BB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EB2-6CB3-4D89-86A5-1513A36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9D2-79E4-42AA-8EEB-395E131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252-67BD-4E2F-9AED-D8380A9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0BE-0467-468F-A0F7-54AE676C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Can It 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8458200" y="3604320"/>
            <a:ext cx="61722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e 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e eggs were biotin start from the store and at room tempertcher when I test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d 95 p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23.75 ponds per eg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m </a:t>
            </a:r>
            <a:r>
              <a:rPr b="0" lang="en-US" sz="4400" spc="-1" strike="noStrike">
                <a:solidFill>
                  <a:srgbClr val="000000"/>
                </a:solidFill>
                <a:latin typeface="ヒラギノ角ゴ Pro W3"/>
              </a:rPr>
              <a:t>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rm were rased on my farm and at room teperet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rm eggs held 85 p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21.25 ponds per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e eggs held 10 ponds more than the farm eggs did. I was hoping that the farm eggs would hold more than the store eggs did. If that would have happened then I could prove that the farm eggs are better for you than the store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2:19Z</dcterms:created>
  <dc:creator>STERLING  USD376</dc:creator>
  <dc:description/>
  <dc:language>en-US</dc:language>
  <cp:lastModifiedBy>USD376</cp:lastModifiedBy>
  <dcterms:modified xsi:type="dcterms:W3CDTF">2010-03-01T19:55:46Z</dcterms:modified>
  <cp:revision>2</cp:revision>
  <dc:subject/>
  <dc:title>How Much Can It Hold</dc:title>
</cp:coreProperties>
</file>